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612-7FF7-4BD5-A892-7770CE44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2F6-08CE-4F0C-9656-FD2919DA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625-235A-4A52-BC06-BA70B71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53B-CFD6-4BE1-8DBA-9D2DF095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C65-FBB5-46BD-A08C-ADC22FFF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FED2-4C3F-4911-963F-1FB258C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3B6-9656-444D-9D53-BE26E258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B25-BF24-4336-A528-69BE81A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806-F15A-4061-92EB-B2798C8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314-149F-4215-B323-753B6A7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1DDD-95CA-43B2-BE1D-C149B58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343-DA6B-4D82-A95C-2A24AC2B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847-D304-4563-8087-6174CBC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7012-D0A3-4B1D-B1FF-97AE659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852-A537-458F-88FC-F9F5829B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24F9-78CE-4F22-9123-5841F510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E83-8400-4840-B8B1-47EB49DC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476E4-3813-4DA2-9371-B323D3D9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0C8B1-7AED-4213-8F49-5EDC5DB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1ED7D-799D-42DC-A1B5-9A34C79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D3AD1-FCF5-4AC4-8A7F-C0072FF3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D09C9-A0A2-4C52-BFD6-214FC0CA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602-A8A8-4856-9D32-820D7743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52A86-B44A-40D7-9B23-64769F1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20EFB-AA53-4B12-8B91-B222096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FFA85-90D0-44EC-AD65-409F0C1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05853-F5BB-4148-B819-CC1737BF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BAE2C-F0E5-4AC9-A0FF-A66026F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ED32E-4A54-4302-B2DC-836D777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19DE0-3F3A-4023-824C-F0EBFE73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64531-D254-4BCB-AF91-8596AEA0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7DBF2-3162-462D-8527-D7ACA5C8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297EC-746E-4584-B46C-AAFB9285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43F-32B8-42CA-B515-3D691164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24657-03C1-4FCA-A2F4-834A3FC5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3F334-DD9C-4170-9C5A-7CBF7C5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1CDDE-376F-4898-ABA3-58403EA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5ACA4-F943-438E-8C52-9E31221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6CC1F-2F3C-4F8E-AA21-E5BE3AF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B57C7-046B-4CF2-9B67-1D22D90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1DA78-29D8-4FF1-939E-3906827E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22F49-4ED8-4A70-A2C4-724A6687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4625F-7E89-4715-AE1C-4417F309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7A9DA-CF98-4601-ACE8-DEC82A63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6FC-63B4-4150-858D-49C1DEE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2E4A7-F348-4787-968D-ECB50269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7E084-6805-4485-B5E8-1B4F2E9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12376-97B9-4CEE-8673-48935850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0BCE1-EA04-4D3A-8EDF-24B12BA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8144D-91E3-47C7-AA6D-8044811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E016A-6E23-4EE4-AA80-F2F5CDD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4EC88-4F42-4B01-9949-D21795A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21ACB-97F5-4F28-B627-A6258CD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B11B1-78A0-4574-8C8C-4072196C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537C9-8AFB-46D0-898B-3CA1BB61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9F7-E802-49D5-90BE-611B2691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4A18E-614D-4444-AD22-67587A2C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48231-037C-45D2-9A7D-418AB0C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92E86-9FAD-49C4-8B70-B32EC51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E174-E49A-45BC-8565-0B0E4AF2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4204-1873-4A0E-AD08-5E8D2472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89D56-A904-434A-A036-71E24A1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E8AD-D354-4D54-A251-91C3EF6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2204B-4F30-4A78-BF0C-2E710F3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2593-0800-44B8-8CBF-6A5F5822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12F6D-6DB1-4B97-BDB6-E0EEF3A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00E-100C-4941-9DFE-CB05EF69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DDD3-C2D5-434F-824A-D36CDFEE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07FC2-423D-49E9-BFC9-4EFF47F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8CDA-365B-4C73-BE3F-D65157A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117A9-BF4C-4F67-A750-8019A17A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EE8DE-E748-4720-ADF8-5A9ABD8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EC650-F538-4F4A-B9D4-ACAFA666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D8C20-F5D1-4DD6-9C32-E041A4E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E636A-3EF4-4055-B450-FD7E35B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A2EB7-12B3-4C7A-888D-1353FF10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17C7D-C765-4737-94E2-29BB461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D2F-5947-4102-B32C-9D95A23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46A5D-EE64-4499-9AD3-EFFF971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10944-CBD0-425B-81F1-4DA54CA2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1AEFA-47C5-4F6A-BE24-4BB8930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1AF7B-3284-474D-BF03-761D79E4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30EB4-6609-4807-9F91-98919FE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0BCE6-1D07-46F8-9F47-F56DB3E8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AD793-A76A-4ACA-A0B9-6D823B8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5933-2B66-4FAE-93EC-7D88C1F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67E6-C22D-414E-90D3-E429291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1E95-EDF8-4CF5-B092-C3E3F76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5B8-439A-47D9-9D9E-D90AECF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D782-5207-4B3D-BD9E-764A2D10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781C-5C06-4E6A-B600-E0D0220B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322D-6FA1-467C-88DF-B865182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2CB0A-5309-446F-B231-A6E87D9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94BB5-0615-4422-A51A-43440F5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27142-F08C-4E83-A0E0-CB89F94D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FD5F-6607-4FD3-BD2A-59847D00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1E1-C658-4B25-894C-68CAD4DE9A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0FB-FE8A-4C8B-B069-8F68B8D1DF8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491-E6C9-4115-A680-D64BCCF1C03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71C-570D-4111-8EC6-3993B87063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639-5F2A-4697-9404-67BBE56B9E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696-12BB-4808-8FFC-0CB53495B7A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043-AD6C-4D6B-BACE-3014B7EB31E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7734-D29D-415E-828A-CB5035E3D4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porcle.com/games/aetomlinson08/unh-ed604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OTIVATION &amp; AFFEC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Tara McNulty –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Overview of Motivation &amp; Affec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Chelsea Donovan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Anxiety in the Classroom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Vincenzo Gilberti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Making the Transition to a Secondary Schoo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audia Viacava </a:t>
            </a: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Lynch- Diversity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Ashley Tomlinson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Group Activity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Cau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1371240"/>
            <a:ext cx="7921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arger school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vious friendship/relationships disrupted by change of school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superficial relationships with new teachers and peer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ewer choices about topics of tasks students comple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hift from mastery goals to performance goal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ess structure to assignmen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rigorous standard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competitiv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 stakes tes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4CE2-385B-4B72-B502-168EBC3C3F62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Vin 8th grade grad 2"/>
          <p:cNvPicPr/>
          <p:nvPr/>
        </p:nvPicPr>
        <p:blipFill>
          <a:blip r:embed="rId1"/>
          <a:srcRect l="6899" t="19890" r="0" b="0"/>
          <a:stretch/>
        </p:blipFill>
        <p:spPr>
          <a:xfrm>
            <a:off x="5029200" y="40384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Vin 8th grade grad 1"/>
          <p:cNvPicPr/>
          <p:nvPr/>
        </p:nvPicPr>
        <p:blipFill>
          <a:blip r:embed="rId2"/>
          <a:stretch/>
        </p:blipFill>
        <p:spPr>
          <a:xfrm>
            <a:off x="2590920" y="144792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d for the Ladies….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7" name="Picture 4" descr="Vin 8th grade class"/>
          <p:cNvPicPr/>
          <p:nvPr/>
        </p:nvPicPr>
        <p:blipFill>
          <a:blip r:embed="rId3"/>
          <a:stretch/>
        </p:blipFill>
        <p:spPr>
          <a:xfrm>
            <a:off x="0" y="3983040"/>
            <a:ext cx="3429000" cy="28749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D1FC-530F-4F52-A5B7-E9A601EDBC34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l decline in positive emotions extreme mood swings (partly result of hormonal changes from puberty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ing concern and anxiety about ones appearance and social stand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creased enjoyment in school (most prevalent in boys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ing prevalence of debilitating anxiety regarding test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eelings of uncertainty about life after graduation (HS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ed anxiety and potential depr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9E9-DDA3-4D28-B948-710442D1C5D4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What teachers can do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16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 especially supportive to students who have just made the transition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how personal interest in students’ well-being and teach effective study skill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ake personal connection with each student expressing confidence that students can succeed with effort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ccasionally incorporate game like features into classroom activitie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ssign cooperative learning projects to facilitate student bonds and supportive friendship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ive frequent assessments; help students prepare for high stakes test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nitor student behavior for signs of long term depressio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 on the lookout for suicidal tendencie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ffer support to facilitate succes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AB3-C024-4BAF-8B1D-B54F1428A78A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48960" y="167652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ultural and Ethnic Differenc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children have basic needs in common; how they satisfy those needs may va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ed for affiliation may vary, as may the amount of encouragement for academic achievem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reotype threat may be pres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are more concerned with doing wel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ry harder, earn higher grades, engage in less self-handicapping, have higher graduation rat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re likely to have high need for affili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1A2-E71D-496F-B1F7-7A0335B10606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nder and Affect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express emotions more openly, except ang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are more anxious about classroom performanc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ower-income students have more stress, may have less effective strategies and self-regulation skil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217-1B12-4284-B2CE-2E39CFBA92F0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523880"/>
            <a:ext cx="796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greatest diversity in 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have difficulty meeting needs for relatedness because of fewer opportunities to socialize with pe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9A1-8C93-4E05-8F03-897B0C098A95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tivation &amp;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48960" y="152352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6 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TARGET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Principles of Motiva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5362560" cy="28958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10F-A6F4-413C-B346-B6AEFE95712D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040" y="159984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ask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pics and assignments should be interesting, engaging, and emotionally charge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ningful learning &gt; Rot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 emotional support, especially with difficult 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utonom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o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adership ro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124080" cy="23256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C643-3627-4D2E-B6DC-CE3485494A7F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1523520"/>
            <a:ext cx="766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ecogni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cknowledge personal and social suc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gnize improvement, not just maste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how students how their actions are directly responsible for suc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rouping Procedur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 opportunities for students to interac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lan activities where all students feel that they can make an important contribu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13600" indent="-2034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) School of Rock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tmosphere of caring, respect, and suppor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489-10BF-4760-83D3-8983D9F45176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 &amp; Its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218960"/>
            <a:ext cx="766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ffect is closely related to motivation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arners have feelings, emotions, and moods that they bring to a tas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udents are more motivated when they feel optimistic about their goals and the chances of meeting the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students are more excited after success, they are more willing to engage in the behavior agai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Picture 4" descr="https://encrypted-tbn3.gstatic.com/images?q=tbn:ANd9GcS_gYaXUEpH18L-bbsxuOUGZm_U5teTM9i232WC3ruUHm6I1CUaYw"/>
          <p:cNvPicPr/>
          <p:nvPr/>
        </p:nvPicPr>
        <p:blipFill>
          <a:blip r:embed="rId1"/>
          <a:stretch/>
        </p:blipFill>
        <p:spPr>
          <a:xfrm>
            <a:off x="3124080" y="4876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6A57-D522-48C0-A3D7-5350207BA9C1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ecific guideli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Eval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6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ime Management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ve students enough time to master 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t students have a say in the schedule and plan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iety and differenti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355840" cy="225756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6C4-69C9-4B4E-B5B6-2D407B2C9237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t in to groups of 2 or 3.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*Make sure at least one person has a computer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Log on to 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sporcle.com/games/aetomlinson08/unh-ed60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inish the quiz in the allotted tim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14B5-B0D2-4606-8E2D-B325CFBB5053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ow do you think you did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as there enough time?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re you prepared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id you feel anxious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id working in a group help you or was it harder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ould you feel differently if the quiz was for a grade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2E4-8722-498D-8545-FEE431CBD228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 &amp; Its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1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ffect:  Related to learning and cogni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ggling with material may lead to disliking materia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ending on previous experience, some material evokes positive feelings, while other material evokes negative feeling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ot cogni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gnitive disson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ore emotional students feel about a piece of material, the more likely they are to remember i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C78-6C4B-4BDB-A972-92B0F04E50D1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trinsic vs. Intrinsic Mo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Extrinsic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on is promoted by factors not within individu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cademic activities are a means to an en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Intrinsic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on promoted by an internal desire to do some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ademic activity is the en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trinsic motivation tends to lead to greater performance and longer-lasting motivatio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405400" y="5181480"/>
            <a:ext cx="3000240" cy="15242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639-21DD-4DA0-811B-EA3C31406CFA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sic Human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34286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"/>
          </a:bodyPr>
          <a:p>
            <a:pPr marL="15840" indent="-15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15840" indent="-15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aslow’s Hierarchy of Need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ory of motivation that proposed people must satisfy four deficiency needs before engaging in self-actualizing activities such as learn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371600" y="1498680"/>
            <a:ext cx="6095880" cy="33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7954-9942-4830-ACE0-7B8B4EDA55EA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eelings of uneasiness and apprehension concerning a situation with an uncertain outcom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ften accompanied by physiological symptom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Anxiety              vs.           F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838080" y="4952880"/>
          <a:ext cx="7365960" cy="1051200"/>
        </p:xfrm>
        <a:graphic>
          <a:graphicData uri="http://schemas.openxmlformats.org/drawingml/2006/table">
            <a:tbl>
              <a:tblPr/>
              <a:tblGrid>
                <a:gridCol w="3683160"/>
                <a:gridCol w="3682800"/>
              </a:tblGrid>
              <a:tr h="1051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known cau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particular cause or rea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A6A-8CC3-4C9A-ADC4-E7B286272699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C01-6828-4875-B9F7-B7BD0FD589AA}" type="slidenum">
              <a:rPr b="0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urces of anxiety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reats - situation in which one has little chance of suc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allenges - situation in which one can succeed with reasonable effor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State             vs.          Tra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62120" y="4267080"/>
          <a:ext cx="7365960" cy="2336760"/>
        </p:xfrm>
        <a:graphic>
          <a:graphicData uri="http://schemas.openxmlformats.org/drawingml/2006/table">
            <a:tbl>
              <a:tblPr/>
              <a:tblGrid>
                <a:gridCol w="3682800"/>
                <a:gridCol w="3683160"/>
              </a:tblGrid>
              <a:tr h="274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mporary feel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y provide motiv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 condi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terferes with performanc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xiety even in non-threatening situ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A88-BE9F-425A-974D-2E7E67355E7D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C00-EE7A-4DFE-8CD2-489EC4E67835}" type="slidenum">
              <a:rPr b="0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0080" y="1523520"/>
            <a:ext cx="8683560" cy="48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acilitating anxiety - a small amount of anxiety that improves performanc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irable for 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al is to keep students at this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ebilitating anxiety - a great amount of anxiety that interferes with performanc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ten triggered by frustrating subject matter and high demand tasks, such as problem solving and crea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lp students with differentiated instr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4C5B-86BF-46AD-A34C-A11E1D80E0B7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iddle School Yea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Transitional 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53:48Z</dcterms:created>
  <dc:creator>Erin M Fisher</dc:creator>
  <dc:description/>
  <dc:language>en-US</dc:language>
  <cp:lastModifiedBy>Ashley Tomlinson</cp:lastModifiedBy>
  <dcterms:modified xsi:type="dcterms:W3CDTF">2013-03-03T05:38:45Z</dcterms:modified>
  <cp:revision>69</cp:revision>
  <dc:subject/>
  <dc:title>Motivation &amp; Affect</dc:title>
</cp:coreProperties>
</file>